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FDA5-4850-45D9-8C7E-63A953AA8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0960-4A77-44AF-BF33-2A6B1DCDD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A7A6-8F6A-4E95-BEBB-76990C3AA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A519-A1A1-439E-BA3A-DA84247B4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0256-CAE5-4708-AD4C-0AAA1A076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869C-A7A1-4178-9DD0-3A189A230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C077-5162-4C4D-B514-FDCAB1564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B9BB-FA56-4732-863D-468421E34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FEB8-0DD9-489C-8AEF-DB473598E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EDD7-C07D-4DD6-B985-C8368D0F1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A736-037A-41D7-96A0-26ED8B4B0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B378-6FA1-44DA-B9A3-271E9ED09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15AA2-5BD2-4CA0-8D13-A7B5DCFDCC7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Четвертое сентября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99640" y="2637000"/>
            <a:ext cx="7272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Орфограммы в корнях слов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5. В каком слове на месте пропуска нужно писать разделительный мягкий знак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1) Обез_ян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2) Об_езд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3) Лит_с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4) Раз_единит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5. В каком слове на месте пропуска нужно писать разделительный мягкий знак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1) Обезьян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6.В каком слове на месте пропуска пишется буква о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1) Ж_рдочк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2) Солнц_м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3) Ш_ро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4) Ч_рточк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6.В каком слове на месте пропуска пишется буква о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3) Шоро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7. Укажите слово, в котором звуков больше, чем бук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1) Краск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2) Клочь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3) Красиво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4) Коле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7. Укажите слово, в котором звуков больше, чем бук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4) Коле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8. Укажите слово, в котором ударение падает на первый сло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1) Каучу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2) Рапор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3) Партер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4) Фарфор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8. Укажите слово, в котором ударение падает на первый сло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2) Рапор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9. Расставьте знаки препинания и укажите сложное предложени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6421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) С самого утра в воздухе кружились игольчатые снежинки но к обеду растаял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) Весна разломала льды понесла их по рекам и разлила свои воды по поля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) Загадочная тишина царит вокруг но настороженное ухо всегда отличит массу звук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) В первый день щенок утащил у хозяина новый сапог и отъел кусок голенищ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9. Расставьте знаки препинания и укажите сложное предложени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6421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) С самого утра в воздухе кружились игольчатые снежинки, но к обеду растаял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) Весна разломала льды, понесла их по рекам и разлила свои воды по поля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3) Загадочная тишина царит вокруг, но настороженное ухо всегда отличит массу звук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) В первый день щенок утащил у хозяина новый сапог и отъел кусок голенищ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1. В каком слове написание с "не" слитно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1) сделал (не)та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2) мне (не)жарк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3) много (не)успевающих по математик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4) никому (не)известный рассказ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Записать в словарь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Ровесни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Сверстни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Печат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Печал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Впечатлени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Бирюзовы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Выборочный диктан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74872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ырастить на окне теплолюбивое растение; миролюбивые животные; расстилаться на лугу; постелить постель; блестящая поверхность; растут в лесу; ложиться на спину; разбираться в технике; располагаться в тени; разложить на кучки; предложить ответ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Запись в словарь корней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833400" y="1989000"/>
            <a:ext cx="747720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8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Объясните орфограммы-гласные в корнях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Познае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Узнат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Впечатлени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1. В каком слове написание с "не" слитно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3) много (не)успевающих по математик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2. Укажите глагол в ряду данных сл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1) сказуемо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2) безударны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3) с тобо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6) обозначиш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2. Укажите глагол в ряду данных сл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6) обозначиш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3. Укажите, в каком слове безударная гласная проверяется словом </a:t>
            </a:r>
            <a:r>
              <a:rPr b="1" i="1" lang="ru-RU" sz="3200" spc="-1" strike="noStrike">
                <a:solidFill>
                  <a:srgbClr val="3333cc"/>
                </a:solidFill>
                <a:latin typeface="Monotype Corsiva"/>
              </a:rPr>
              <a:t>г</a:t>
            </a:r>
            <a:r>
              <a:rPr b="1" lang="ru-RU" sz="3200" spc="-1" strike="noStrike">
                <a:solidFill>
                  <a:srgbClr val="3333cc"/>
                </a:solidFill>
                <a:latin typeface="Monotype Corsiva"/>
              </a:rPr>
              <a:t>одный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1) годово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2) год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3) годовалы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4) годитьс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3. Укажите, в каком слове безударная гласная проверяется словом </a:t>
            </a:r>
            <a:r>
              <a:rPr b="1" i="1" lang="ru-RU" sz="3200" spc="-1" strike="noStrike">
                <a:solidFill>
                  <a:srgbClr val="3333cc"/>
                </a:solidFill>
                <a:latin typeface="Monotype Corsiva"/>
              </a:rPr>
              <a:t>г</a:t>
            </a:r>
            <a:r>
              <a:rPr b="1" lang="ru-RU" sz="3200" spc="-1" strike="noStrike">
                <a:solidFill>
                  <a:srgbClr val="3333cc"/>
                </a:solidFill>
                <a:latin typeface="Monotype Corsiva"/>
              </a:rPr>
              <a:t>одный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4) годитьс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4. Укажите предложение с однородными подлежащи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71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1) Дождь стучал по крыше, трепал листья в саду, плескался на дворе в лужах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2) Пушистый снег закрывает дома, столбы, деревья белой пеленой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3) На юг улетают журавли, скворцы, грач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4) Подолгу лежит на скатах крыш, на перилах балкона иней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4. Укажите предложение с однородными подлежащи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71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3) На юг улетают журавли, скворцы, грач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LEG</cp:lastModifiedBy>
  <dcterms:modified xsi:type="dcterms:W3CDTF">2003-09-03T12:35:43Z</dcterms:modified>
  <cp:revision>18</cp:revision>
  <dc:subject/>
  <dc:title>PowerPoint Presentation</dc:title>
</cp:coreProperties>
</file>